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C03-C2B9-4B73-970A-A6441094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287-1ECA-4132-82A0-C6ACC9FE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FD8-80EF-41F1-8DF4-5E710F47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DD9-44B1-402D-9499-331DE80D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70F-1370-4124-86AB-C85F54CE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0AF-FB23-43EA-8EBD-727B0B7C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7BE-23EF-468A-A5BB-C8D1D361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D0F-2F72-4484-B082-8E9A7E3B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F15-E78C-4BB1-8EF1-EE314685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2DF-7C6F-4B24-A18C-AAC37941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6EA-D59A-46FE-9893-636B511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E98-DC46-4033-8B9D-79868BA3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C94A-FD8A-4009-BCF1-C7476B4EF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95280" y="1547640"/>
                <a:ext cx="1143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887560" y="1908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x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1240" y="3263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55760" y="3173400"/>
          <a:ext cx="201456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3173400"/>
                    <a:ext cx="20145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333440" y="367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6880" y="464652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 + 2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61560" y="488628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= 3 and c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96080" y="258840"/>
            <a:ext cx="803160" cy="617400"/>
          </a:xfrm>
          <a:custGeom>
            <a:avLst/>
            <a:gdLst/>
            <a:ahLst/>
            <a:rect l="l" t="t" r="r" b="b"/>
            <a:pathLst>
              <a:path w="2234" h="1713">
                <a:moveTo>
                  <a:pt x="19124" y="769"/>
                </a:moveTo>
                <a:cubicBezTo>
                  <a:pt x="19124" y="1000"/>
                  <a:pt x="19124" y="1232"/>
                  <a:pt x="19124" y="1463"/>
                </a:cubicBezTo>
              </a:path>
              <a:path w="2234" h="1713">
                <a:moveTo>
                  <a:pt x="19447" y="794"/>
                </a:moveTo>
                <a:cubicBezTo>
                  <a:pt x="19555" y="772"/>
                  <a:pt x="19662" y="761"/>
                  <a:pt x="19745" y="868"/>
                </a:cubicBezTo>
                <a:cubicBezTo>
                  <a:pt x="19877" y="1039"/>
                  <a:pt x="19783" y="1209"/>
                  <a:pt x="19596" y="1240"/>
                </a:cubicBezTo>
                <a:cubicBezTo>
                  <a:pt x="19484" y="1240"/>
                  <a:pt x="19449" y="1250"/>
                  <a:pt x="19422" y="1166"/>
                </a:cubicBezTo>
                <a:cubicBezTo>
                  <a:pt x="19468" y="1026"/>
                  <a:pt x="19601" y="964"/>
                  <a:pt x="19745" y="1067"/>
                </a:cubicBezTo>
                <a:cubicBezTo>
                  <a:pt x="19809" y="1113"/>
                  <a:pt x="19849" y="1221"/>
                  <a:pt x="19869" y="1290"/>
                </a:cubicBezTo>
              </a:path>
              <a:path w="2234" h="1713">
                <a:moveTo>
                  <a:pt x="20191" y="868"/>
                </a:moveTo>
                <a:cubicBezTo>
                  <a:pt x="20277" y="1014"/>
                  <a:pt x="20290" y="1093"/>
                  <a:pt x="20290" y="1265"/>
                </a:cubicBezTo>
              </a:path>
              <a:path w="2234" h="1713">
                <a:moveTo>
                  <a:pt x="20117" y="1017"/>
                </a:moveTo>
                <a:cubicBezTo>
                  <a:pt x="20226" y="1001"/>
                  <a:pt x="20336" y="993"/>
                  <a:pt x="20439" y="967"/>
                </a:cubicBezTo>
              </a:path>
              <a:path w="2234" h="1713">
                <a:moveTo>
                  <a:pt x="21010" y="769"/>
                </a:moveTo>
                <a:cubicBezTo>
                  <a:pt x="20932" y="730"/>
                  <a:pt x="20800" y="671"/>
                  <a:pt x="20712" y="744"/>
                </a:cubicBezTo>
                <a:cubicBezTo>
                  <a:pt x="20662" y="819"/>
                  <a:pt x="20646" y="843"/>
                  <a:pt x="20613" y="893"/>
                </a:cubicBezTo>
                <a:cubicBezTo>
                  <a:pt x="20748" y="1007"/>
                  <a:pt x="20926" y="1051"/>
                  <a:pt x="21059" y="1166"/>
                </a:cubicBezTo>
                <a:cubicBezTo>
                  <a:pt x="21076" y="1191"/>
                  <a:pt x="21092" y="1215"/>
                  <a:pt x="21109" y="1240"/>
                </a:cubicBezTo>
                <a:cubicBezTo>
                  <a:pt x="21089" y="1321"/>
                  <a:pt x="20984" y="1431"/>
                  <a:pt x="20886" y="1339"/>
                </a:cubicBezTo>
                <a:cubicBezTo>
                  <a:pt x="20769" y="1229"/>
                  <a:pt x="20911" y="973"/>
                  <a:pt x="20960" y="868"/>
                </a:cubicBezTo>
                <a:cubicBezTo>
                  <a:pt x="20984" y="820"/>
                  <a:pt x="20993" y="806"/>
                  <a:pt x="20985" y="769"/>
                </a:cubicBezTo>
              </a:path>
              <a:path w="2234" h="1713">
                <a:moveTo>
                  <a:pt x="19000" y="1662"/>
                </a:moveTo>
                <a:cubicBezTo>
                  <a:pt x="19150" y="1614"/>
                  <a:pt x="19286" y="1595"/>
                  <a:pt x="19447" y="1612"/>
                </a:cubicBezTo>
                <a:cubicBezTo>
                  <a:pt x="19622" y="1630"/>
                  <a:pt x="19793" y="1674"/>
                  <a:pt x="19968" y="1687"/>
                </a:cubicBezTo>
                <a:cubicBezTo>
                  <a:pt x="20094" y="1697"/>
                  <a:pt x="20213" y="1712"/>
                  <a:pt x="20340" y="1712"/>
                </a:cubicBezTo>
                <a:cubicBezTo>
                  <a:pt x="20493" y="1712"/>
                  <a:pt x="20638" y="1706"/>
                  <a:pt x="20786" y="1687"/>
                </a:cubicBezTo>
                <a:cubicBezTo>
                  <a:pt x="20803" y="1687"/>
                  <a:pt x="20819" y="1687"/>
                  <a:pt x="20836" y="1687"/>
                </a:cubicBezTo>
              </a:path>
              <a:path w="2234" h="1713">
                <a:moveTo>
                  <a:pt x="19720" y="1910"/>
                </a:moveTo>
                <a:cubicBezTo>
                  <a:pt x="19720" y="1977"/>
                  <a:pt x="19719" y="2029"/>
                  <a:pt x="19695" y="2084"/>
                </a:cubicBezTo>
                <a:cubicBezTo>
                  <a:pt x="19808" y="2097"/>
                  <a:pt x="19902" y="2084"/>
                  <a:pt x="20017" y="2084"/>
                </a:cubicBezTo>
              </a:path>
              <a:path w="2234" h="1713">
                <a:moveTo>
                  <a:pt x="20092" y="1860"/>
                </a:moveTo>
                <a:cubicBezTo>
                  <a:pt x="20058" y="2039"/>
                  <a:pt x="20086" y="2200"/>
                  <a:pt x="20092" y="2381"/>
                </a:cubicBezTo>
                <a:cubicBezTo>
                  <a:pt x="20092" y="2398"/>
                  <a:pt x="20092" y="2414"/>
                  <a:pt x="20092" y="2431"/>
                </a:cubicBezTo>
              </a:path>
              <a:path w="2234" h="1713">
                <a:moveTo>
                  <a:pt x="18876" y="1588"/>
                </a:moveTo>
                <a:cubicBezTo>
                  <a:pt x="18950" y="1588"/>
                  <a:pt x="19003" y="1602"/>
                  <a:pt x="19075" y="1612"/>
                </a:cubicBezTo>
                <a:cubicBezTo>
                  <a:pt x="19135" y="1620"/>
                  <a:pt x="19192" y="1628"/>
                  <a:pt x="19248" y="1637"/>
                </a:cubicBezTo>
                <a:cubicBezTo>
                  <a:pt x="19306" y="1646"/>
                  <a:pt x="19363" y="1659"/>
                  <a:pt x="19422" y="1662"/>
                </a:cubicBezTo>
                <a:cubicBezTo>
                  <a:pt x="19574" y="1670"/>
                  <a:pt x="19726" y="1661"/>
                  <a:pt x="19869" y="1637"/>
                </a:cubicBezTo>
                <a:cubicBezTo>
                  <a:pt x="19962" y="1621"/>
                  <a:pt x="20074" y="1621"/>
                  <a:pt x="20166" y="1612"/>
                </a:cubicBezTo>
                <a:cubicBezTo>
                  <a:pt x="20324" y="1597"/>
                  <a:pt x="20485" y="1607"/>
                  <a:pt x="20638" y="1588"/>
                </a:cubicBezTo>
                <a:cubicBezTo>
                  <a:pt x="20707" y="1579"/>
                  <a:pt x="20768" y="1609"/>
                  <a:pt x="20836" y="1612"/>
                </a:cubicBezTo>
                <a:cubicBezTo>
                  <a:pt x="20893" y="1615"/>
                  <a:pt x="20930" y="1624"/>
                  <a:pt x="20985" y="1637"/>
                </a:cubicBezTo>
                <a:cubicBezTo>
                  <a:pt x="20993" y="1637"/>
                  <a:pt x="21002" y="1637"/>
                  <a:pt x="21010" y="16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02280" y="1357200"/>
            <a:ext cx="322560" cy="849600"/>
          </a:xfrm>
          <a:custGeom>
            <a:avLst/>
            <a:gdLst/>
            <a:ahLst/>
            <a:rect l="l" t="t" r="r" b="b"/>
            <a:pathLst>
              <a:path w="894" h="2358">
                <a:moveTo>
                  <a:pt x="19695" y="3795"/>
                </a:moveTo>
                <a:cubicBezTo>
                  <a:pt x="19580" y="3789"/>
                  <a:pt x="19180" y="3797"/>
                  <a:pt x="19174" y="3994"/>
                </a:cubicBezTo>
                <a:cubicBezTo>
                  <a:pt x="19170" y="4127"/>
                  <a:pt x="19701" y="4266"/>
                  <a:pt x="19794" y="4390"/>
                </a:cubicBezTo>
                <a:cubicBezTo>
                  <a:pt x="19587" y="4505"/>
                  <a:pt x="19532" y="4546"/>
                  <a:pt x="19372" y="4514"/>
                </a:cubicBezTo>
                <a:cubicBezTo>
                  <a:pt x="19406" y="4209"/>
                  <a:pt x="19553" y="4055"/>
                  <a:pt x="19745" y="3795"/>
                </a:cubicBezTo>
              </a:path>
              <a:path w="894" h="2358">
                <a:moveTo>
                  <a:pt x="19323" y="4862"/>
                </a:moveTo>
                <a:cubicBezTo>
                  <a:pt x="19571" y="4862"/>
                  <a:pt x="19819" y="4862"/>
                  <a:pt x="20067" y="4862"/>
                </a:cubicBezTo>
              </a:path>
              <a:path w="894" h="2358">
                <a:moveTo>
                  <a:pt x="19248" y="5333"/>
                </a:moveTo>
                <a:cubicBezTo>
                  <a:pt x="19204" y="5498"/>
                  <a:pt x="19130" y="5675"/>
                  <a:pt x="19397" y="5655"/>
                </a:cubicBezTo>
                <a:cubicBezTo>
                  <a:pt x="19588" y="5613"/>
                  <a:pt x="19629" y="5604"/>
                  <a:pt x="19745" y="5581"/>
                </a:cubicBezTo>
              </a:path>
              <a:path w="894" h="2358">
                <a:moveTo>
                  <a:pt x="19720" y="5259"/>
                </a:moveTo>
                <a:cubicBezTo>
                  <a:pt x="19646" y="5526"/>
                  <a:pt x="19583" y="5801"/>
                  <a:pt x="19546" y="6077"/>
                </a:cubicBezTo>
                <a:cubicBezTo>
                  <a:pt x="19546" y="6094"/>
                  <a:pt x="19546" y="6110"/>
                  <a:pt x="19546" y="6127"/>
                </a:cubicBezTo>
              </a:path>
              <a:path w="894" h="2358">
                <a:moveTo>
                  <a:pt x="19397" y="4887"/>
                </a:moveTo>
                <a:cubicBezTo>
                  <a:pt x="19414" y="4895"/>
                  <a:pt x="19430" y="4903"/>
                  <a:pt x="19447" y="4911"/>
                </a:cubicBezTo>
                <a:cubicBezTo>
                  <a:pt x="19392" y="4888"/>
                  <a:pt x="19334" y="4866"/>
                  <a:pt x="19273" y="4862"/>
                </a:cubicBezTo>
                <a:cubicBezTo>
                  <a:pt x="19232" y="4862"/>
                  <a:pt x="19224" y="4862"/>
                  <a:pt x="19199" y="4862"/>
                </a:cubicBezTo>
                <a:cubicBezTo>
                  <a:pt x="19275" y="4841"/>
                  <a:pt x="19345" y="4818"/>
                  <a:pt x="19422" y="4812"/>
                </a:cubicBezTo>
                <a:cubicBezTo>
                  <a:pt x="19430" y="4812"/>
                  <a:pt x="19439" y="4812"/>
                  <a:pt x="19447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9920" y="2554200"/>
            <a:ext cx="196920" cy="24156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19273" y="7243"/>
                </a:moveTo>
                <a:cubicBezTo>
                  <a:pt x="19427" y="7149"/>
                  <a:pt x="19541" y="7089"/>
                  <a:pt x="19720" y="7119"/>
                </a:cubicBezTo>
                <a:cubicBezTo>
                  <a:pt x="19588" y="7359"/>
                  <a:pt x="19420" y="7532"/>
                  <a:pt x="19248" y="7739"/>
                </a:cubicBezTo>
                <a:cubicBezTo>
                  <a:pt x="19240" y="7747"/>
                  <a:pt x="19232" y="7756"/>
                  <a:pt x="19224" y="7764"/>
                </a:cubicBezTo>
                <a:cubicBezTo>
                  <a:pt x="19405" y="7739"/>
                  <a:pt x="19588" y="7710"/>
                  <a:pt x="19769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6840" y="2608200"/>
            <a:ext cx="304560" cy="249480"/>
          </a:xfrm>
          <a:custGeom>
            <a:avLst/>
            <a:gdLst/>
            <a:ahLst/>
            <a:rect l="l" t="t" r="r" b="b"/>
            <a:pathLst>
              <a:path w="844" h="696">
                <a:moveTo>
                  <a:pt x="16644" y="7243"/>
                </a:moveTo>
                <a:cubicBezTo>
                  <a:pt x="16580" y="7472"/>
                  <a:pt x="16569" y="7705"/>
                  <a:pt x="16520" y="7938"/>
                </a:cubicBezTo>
              </a:path>
              <a:path w="844" h="696">
                <a:moveTo>
                  <a:pt x="16917" y="7342"/>
                </a:moveTo>
                <a:cubicBezTo>
                  <a:pt x="17076" y="7273"/>
                  <a:pt x="17108" y="7264"/>
                  <a:pt x="17264" y="7342"/>
                </a:cubicBezTo>
                <a:cubicBezTo>
                  <a:pt x="17264" y="7526"/>
                  <a:pt x="17107" y="7639"/>
                  <a:pt x="16991" y="7789"/>
                </a:cubicBezTo>
                <a:cubicBezTo>
                  <a:pt x="16983" y="7805"/>
                  <a:pt x="16974" y="7822"/>
                  <a:pt x="16966" y="7838"/>
                </a:cubicBezTo>
                <a:cubicBezTo>
                  <a:pt x="17097" y="7815"/>
                  <a:pt x="17232" y="7774"/>
                  <a:pt x="17363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84960" y="265284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8008" y="7367"/>
                </a:moveTo>
                <a:cubicBezTo>
                  <a:pt x="17978" y="7497"/>
                  <a:pt x="17993" y="7635"/>
                  <a:pt x="17959" y="7764"/>
                </a:cubicBezTo>
              </a:path>
              <a:path w="398" h="398">
                <a:moveTo>
                  <a:pt x="17735" y="7516"/>
                </a:moveTo>
                <a:cubicBezTo>
                  <a:pt x="17867" y="7516"/>
                  <a:pt x="18000" y="7516"/>
                  <a:pt x="18132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86280" y="1741320"/>
            <a:ext cx="384480" cy="330480"/>
          </a:xfrm>
          <a:custGeom>
            <a:avLst/>
            <a:gdLst/>
            <a:ahLst/>
            <a:rect l="l" t="t" r="r" b="b"/>
            <a:pathLst>
              <a:path w="1068" h="919">
                <a:moveTo>
                  <a:pt x="16148" y="4911"/>
                </a:moveTo>
                <a:cubicBezTo>
                  <a:pt x="16140" y="5196"/>
                  <a:pt x="16115" y="5473"/>
                  <a:pt x="16073" y="5755"/>
                </a:cubicBezTo>
              </a:path>
              <a:path w="1068" h="919">
                <a:moveTo>
                  <a:pt x="16619" y="4862"/>
                </a:moveTo>
                <a:cubicBezTo>
                  <a:pt x="16772" y="4849"/>
                  <a:pt x="17152" y="4811"/>
                  <a:pt x="16991" y="5110"/>
                </a:cubicBezTo>
                <a:cubicBezTo>
                  <a:pt x="16906" y="5267"/>
                  <a:pt x="16689" y="5366"/>
                  <a:pt x="16545" y="5457"/>
                </a:cubicBezTo>
                <a:cubicBezTo>
                  <a:pt x="16745" y="5504"/>
                  <a:pt x="16937" y="5498"/>
                  <a:pt x="17140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75240" y="1795320"/>
            <a:ext cx="152640" cy="115920"/>
          </a:xfrm>
          <a:custGeom>
            <a:avLst/>
            <a:gdLst/>
            <a:ahLst/>
            <a:rect l="l" t="t" r="r" b="b"/>
            <a:pathLst>
              <a:path w="422" h="323">
                <a:moveTo>
                  <a:pt x="17959" y="4986"/>
                </a:moveTo>
                <a:cubicBezTo>
                  <a:pt x="17959" y="5152"/>
                  <a:pt x="17958" y="5202"/>
                  <a:pt x="17983" y="5308"/>
                </a:cubicBezTo>
              </a:path>
              <a:path w="422" h="323">
                <a:moveTo>
                  <a:pt x="17711" y="5234"/>
                </a:moveTo>
                <a:cubicBezTo>
                  <a:pt x="17852" y="5226"/>
                  <a:pt x="17991" y="5215"/>
                  <a:pt x="18132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6040" y="2276640"/>
            <a:ext cx="1116000" cy="715680"/>
          </a:xfrm>
          <a:custGeom>
            <a:avLst/>
            <a:gdLst/>
            <a:ahLst/>
            <a:rect l="l" t="t" r="r" b="b"/>
            <a:pathLst>
              <a:path w="3101" h="1986">
                <a:moveTo>
                  <a:pt x="20737" y="7243"/>
                </a:moveTo>
                <a:cubicBezTo>
                  <a:pt x="20862" y="7253"/>
                  <a:pt x="20983" y="7263"/>
                  <a:pt x="21109" y="7268"/>
                </a:cubicBezTo>
              </a:path>
              <a:path w="3101" h="1986">
                <a:moveTo>
                  <a:pt x="20762" y="7466"/>
                </a:moveTo>
                <a:cubicBezTo>
                  <a:pt x="20919" y="7466"/>
                  <a:pt x="20978" y="7465"/>
                  <a:pt x="21084" y="7441"/>
                </a:cubicBezTo>
              </a:path>
              <a:path w="3101" h="1986">
                <a:moveTo>
                  <a:pt x="21927" y="7094"/>
                </a:moveTo>
                <a:cubicBezTo>
                  <a:pt x="21968" y="7296"/>
                  <a:pt x="21977" y="7484"/>
                  <a:pt x="21977" y="7689"/>
                </a:cubicBezTo>
              </a:path>
              <a:path w="3101" h="1986">
                <a:moveTo>
                  <a:pt x="22423" y="7069"/>
                </a:moveTo>
                <a:cubicBezTo>
                  <a:pt x="22437" y="7180"/>
                  <a:pt x="22440" y="7212"/>
                  <a:pt x="22399" y="7317"/>
                </a:cubicBezTo>
                <a:cubicBezTo>
                  <a:pt x="22602" y="7382"/>
                  <a:pt x="22756" y="7356"/>
                  <a:pt x="22969" y="7317"/>
                </a:cubicBezTo>
              </a:path>
              <a:path w="3101" h="1986">
                <a:moveTo>
                  <a:pt x="22920" y="6921"/>
                </a:moveTo>
                <a:cubicBezTo>
                  <a:pt x="22891" y="7178"/>
                  <a:pt x="22878" y="7435"/>
                  <a:pt x="22845" y="7689"/>
                </a:cubicBezTo>
              </a:path>
              <a:path w="3101" h="1986">
                <a:moveTo>
                  <a:pt x="21258" y="8210"/>
                </a:moveTo>
                <a:cubicBezTo>
                  <a:pt x="21709" y="8321"/>
                  <a:pt x="22108" y="8325"/>
                  <a:pt x="22572" y="8260"/>
                </a:cubicBezTo>
                <a:cubicBezTo>
                  <a:pt x="22969" y="8204"/>
                  <a:pt x="23300" y="8042"/>
                  <a:pt x="23589" y="7764"/>
                </a:cubicBezTo>
                <a:cubicBezTo>
                  <a:pt x="23825" y="7537"/>
                  <a:pt x="23892" y="7327"/>
                  <a:pt x="23763" y="7020"/>
                </a:cubicBezTo>
                <a:cubicBezTo>
                  <a:pt x="23642" y="6731"/>
                  <a:pt x="23360" y="6582"/>
                  <a:pt x="23093" y="6449"/>
                </a:cubicBezTo>
                <a:cubicBezTo>
                  <a:pt x="22872" y="6338"/>
                  <a:pt x="22643" y="6309"/>
                  <a:pt x="22399" y="6350"/>
                </a:cubicBezTo>
                <a:cubicBezTo>
                  <a:pt x="22131" y="6395"/>
                  <a:pt x="21963" y="6475"/>
                  <a:pt x="21779" y="6672"/>
                </a:cubicBezTo>
                <a:cubicBezTo>
                  <a:pt x="21575" y="6891"/>
                  <a:pt x="21354" y="7134"/>
                  <a:pt x="21307" y="7441"/>
                </a:cubicBezTo>
                <a:cubicBezTo>
                  <a:pt x="21270" y="7686"/>
                  <a:pt x="21394" y="7877"/>
                  <a:pt x="21530" y="8062"/>
                </a:cubicBezTo>
                <a:cubicBezTo>
                  <a:pt x="21627" y="8194"/>
                  <a:pt x="21718" y="8229"/>
                  <a:pt x="21878" y="8235"/>
                </a:cubicBezTo>
                <a:cubicBezTo>
                  <a:pt x="21903" y="8235"/>
                  <a:pt x="21927" y="8235"/>
                  <a:pt x="2195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3776760"/>
            <a:ext cx="1428840" cy="1063440"/>
          </a:xfrm>
          <a:custGeom>
            <a:avLst/>
            <a:gdLst/>
            <a:ahLst/>
            <a:rect l="l" t="t" r="r" b="b"/>
            <a:pathLst>
              <a:path w="3970" h="2953">
                <a:moveTo>
                  <a:pt x="6201" y="10666"/>
                </a:moveTo>
                <a:cubicBezTo>
                  <a:pt x="6201" y="10802"/>
                  <a:pt x="6153" y="10974"/>
                  <a:pt x="6350" y="10964"/>
                </a:cubicBezTo>
                <a:cubicBezTo>
                  <a:pt x="6622" y="10950"/>
                  <a:pt x="6890" y="10834"/>
                  <a:pt x="7169" y="10864"/>
                </a:cubicBezTo>
                <a:cubicBezTo>
                  <a:pt x="7247" y="10873"/>
                  <a:pt x="7206" y="10911"/>
                  <a:pt x="7268" y="10864"/>
                </a:cubicBezTo>
                <a:cubicBezTo>
                  <a:pt x="7273" y="10723"/>
                  <a:pt x="7280" y="10626"/>
                  <a:pt x="7317" y="10492"/>
                </a:cubicBezTo>
              </a:path>
              <a:path w="3970" h="2953">
                <a:moveTo>
                  <a:pt x="6722" y="11162"/>
                </a:moveTo>
                <a:cubicBezTo>
                  <a:pt x="6722" y="11314"/>
                  <a:pt x="6736" y="11459"/>
                  <a:pt x="6747" y="11609"/>
                </a:cubicBezTo>
              </a:path>
              <a:path w="3970" h="2953">
                <a:moveTo>
                  <a:pt x="7193" y="11088"/>
                </a:moveTo>
                <a:cubicBezTo>
                  <a:pt x="7070" y="11132"/>
                  <a:pt x="7046" y="11153"/>
                  <a:pt x="7020" y="11286"/>
                </a:cubicBezTo>
                <a:cubicBezTo>
                  <a:pt x="7157" y="11314"/>
                  <a:pt x="7305" y="11208"/>
                  <a:pt x="7441" y="11311"/>
                </a:cubicBezTo>
                <a:cubicBezTo>
                  <a:pt x="7634" y="11457"/>
                  <a:pt x="7372" y="11672"/>
                  <a:pt x="7218" y="11658"/>
                </a:cubicBezTo>
                <a:cubicBezTo>
                  <a:pt x="7168" y="11642"/>
                  <a:pt x="7119" y="11625"/>
                  <a:pt x="7069" y="11609"/>
                </a:cubicBezTo>
              </a:path>
              <a:path w="3970" h="2953">
                <a:moveTo>
                  <a:pt x="4936" y="11237"/>
                </a:moveTo>
                <a:cubicBezTo>
                  <a:pt x="4904" y="11408"/>
                  <a:pt x="4911" y="11581"/>
                  <a:pt x="4911" y="11757"/>
                </a:cubicBezTo>
              </a:path>
              <a:path w="3970" h="2953">
                <a:moveTo>
                  <a:pt x="5135" y="11286"/>
                </a:moveTo>
                <a:cubicBezTo>
                  <a:pt x="5251" y="11239"/>
                  <a:pt x="5380" y="11214"/>
                  <a:pt x="5507" y="11237"/>
                </a:cubicBezTo>
                <a:cubicBezTo>
                  <a:pt x="5523" y="11245"/>
                  <a:pt x="5540" y="11253"/>
                  <a:pt x="5556" y="11261"/>
                </a:cubicBezTo>
                <a:cubicBezTo>
                  <a:pt x="5545" y="11421"/>
                  <a:pt x="5517" y="11576"/>
                  <a:pt x="5482" y="11733"/>
                </a:cubicBezTo>
              </a:path>
              <a:path w="3970" h="2953">
                <a:moveTo>
                  <a:pt x="5904" y="11485"/>
                </a:moveTo>
                <a:cubicBezTo>
                  <a:pt x="5981" y="11536"/>
                  <a:pt x="6009" y="11552"/>
                  <a:pt x="6077" y="11534"/>
                </a:cubicBezTo>
              </a:path>
              <a:path w="3970" h="2953">
                <a:moveTo>
                  <a:pt x="7913" y="11212"/>
                </a:moveTo>
                <a:cubicBezTo>
                  <a:pt x="7933" y="11321"/>
                  <a:pt x="7954" y="11425"/>
                  <a:pt x="7962" y="11534"/>
                </a:cubicBezTo>
              </a:path>
              <a:path w="3970" h="2953">
                <a:moveTo>
                  <a:pt x="7838" y="11385"/>
                </a:moveTo>
                <a:cubicBezTo>
                  <a:pt x="7935" y="11417"/>
                  <a:pt x="7983" y="11426"/>
                  <a:pt x="8062" y="11410"/>
                </a:cubicBezTo>
              </a:path>
              <a:path w="3970" h="2953">
                <a:moveTo>
                  <a:pt x="8434" y="11187"/>
                </a:moveTo>
                <a:cubicBezTo>
                  <a:pt x="8437" y="11223"/>
                  <a:pt x="8435" y="11400"/>
                  <a:pt x="8483" y="11410"/>
                </a:cubicBezTo>
                <a:cubicBezTo>
                  <a:pt x="8627" y="11441"/>
                  <a:pt x="8735" y="11368"/>
                  <a:pt x="8855" y="11311"/>
                </a:cubicBezTo>
              </a:path>
              <a:path w="3970" h="2953">
                <a:moveTo>
                  <a:pt x="8855" y="10988"/>
                </a:moveTo>
                <a:cubicBezTo>
                  <a:pt x="8843" y="11174"/>
                  <a:pt x="8815" y="11374"/>
                  <a:pt x="8855" y="11559"/>
                </a:cubicBezTo>
                <a:cubicBezTo>
                  <a:pt x="8863" y="11567"/>
                  <a:pt x="8872" y="11576"/>
                  <a:pt x="8880" y="11584"/>
                </a:cubicBezTo>
              </a:path>
              <a:path w="3970" h="2953">
                <a:moveTo>
                  <a:pt x="5779" y="11757"/>
                </a:moveTo>
                <a:cubicBezTo>
                  <a:pt x="5779" y="11832"/>
                  <a:pt x="5779" y="11856"/>
                  <a:pt x="5779" y="11906"/>
                </a:cubicBezTo>
                <a:cubicBezTo>
                  <a:pt x="5970" y="11965"/>
                  <a:pt x="6219" y="11832"/>
                  <a:pt x="6449" y="11832"/>
                </a:cubicBezTo>
                <a:cubicBezTo>
                  <a:pt x="6534" y="11832"/>
                  <a:pt x="6742" y="11900"/>
                  <a:pt x="6796" y="11832"/>
                </a:cubicBezTo>
                <a:cubicBezTo>
                  <a:pt x="6857" y="11751"/>
                  <a:pt x="6872" y="11739"/>
                  <a:pt x="6896" y="11683"/>
                </a:cubicBezTo>
              </a:path>
              <a:path w="3970" h="2953">
                <a:moveTo>
                  <a:pt x="6176" y="12254"/>
                </a:moveTo>
                <a:cubicBezTo>
                  <a:pt x="6311" y="12190"/>
                  <a:pt x="6407" y="12125"/>
                  <a:pt x="6548" y="12179"/>
                </a:cubicBezTo>
                <a:cubicBezTo>
                  <a:pt x="6483" y="12293"/>
                  <a:pt x="6411" y="12340"/>
                  <a:pt x="6300" y="12427"/>
                </a:cubicBezTo>
                <a:cubicBezTo>
                  <a:pt x="6432" y="12440"/>
                  <a:pt x="6538" y="12434"/>
                  <a:pt x="6672" y="12427"/>
                </a:cubicBezTo>
              </a:path>
              <a:path w="3970" h="2953">
                <a:moveTo>
                  <a:pt x="6945" y="12179"/>
                </a:moveTo>
                <a:cubicBezTo>
                  <a:pt x="6950" y="12242"/>
                  <a:pt x="6960" y="12292"/>
                  <a:pt x="6970" y="12353"/>
                </a:cubicBezTo>
              </a:path>
              <a:path w="3970" h="2953">
                <a:moveTo>
                  <a:pt x="6921" y="12254"/>
                </a:moveTo>
                <a:cubicBezTo>
                  <a:pt x="7018" y="12254"/>
                  <a:pt x="7098" y="12246"/>
                  <a:pt x="7193" y="12229"/>
                </a:cubicBezTo>
              </a:path>
              <a:path w="3970" h="2953">
                <a:moveTo>
                  <a:pt x="7441" y="12154"/>
                </a:moveTo>
                <a:cubicBezTo>
                  <a:pt x="7441" y="12313"/>
                  <a:pt x="7519" y="12300"/>
                  <a:pt x="7665" y="12278"/>
                </a:cubicBezTo>
                <a:cubicBezTo>
                  <a:pt x="7764" y="12254"/>
                  <a:pt x="7797" y="12246"/>
                  <a:pt x="7863" y="12229"/>
                </a:cubicBezTo>
              </a:path>
              <a:path w="3970" h="2953">
                <a:moveTo>
                  <a:pt x="7838" y="12055"/>
                </a:moveTo>
                <a:cubicBezTo>
                  <a:pt x="7826" y="12196"/>
                  <a:pt x="7830" y="12311"/>
                  <a:pt x="7838" y="12452"/>
                </a:cubicBezTo>
              </a:path>
              <a:path w="3970" h="2953">
                <a:moveTo>
                  <a:pt x="6995" y="12725"/>
                </a:moveTo>
                <a:cubicBezTo>
                  <a:pt x="6946" y="12871"/>
                  <a:pt x="6929" y="12947"/>
                  <a:pt x="6945" y="13097"/>
                </a:cubicBezTo>
                <a:cubicBezTo>
                  <a:pt x="7157" y="13159"/>
                  <a:pt x="7242" y="13118"/>
                  <a:pt x="7417" y="12973"/>
                </a:cubicBezTo>
                <a:cubicBezTo>
                  <a:pt x="7337" y="12877"/>
                  <a:pt x="7248" y="12961"/>
                  <a:pt x="7193" y="13072"/>
                </a:cubicBezTo>
                <a:cubicBezTo>
                  <a:pt x="7185" y="13105"/>
                  <a:pt x="7177" y="13138"/>
                  <a:pt x="7169" y="13171"/>
                </a:cubicBezTo>
              </a:path>
              <a:path w="3970" h="2953">
                <a:moveTo>
                  <a:pt x="6672" y="13419"/>
                </a:moveTo>
                <a:cubicBezTo>
                  <a:pt x="6950" y="13453"/>
                  <a:pt x="7190" y="13429"/>
                  <a:pt x="7466" y="13370"/>
                </a:cubicBezTo>
                <a:cubicBezTo>
                  <a:pt x="7693" y="13321"/>
                  <a:pt x="7968" y="13242"/>
                  <a:pt x="8062" y="12998"/>
                </a:cubicBezTo>
                <a:cubicBezTo>
                  <a:pt x="8164" y="12732"/>
                  <a:pt x="7910" y="12510"/>
                  <a:pt x="7689" y="12427"/>
                </a:cubicBezTo>
                <a:cubicBezTo>
                  <a:pt x="7426" y="12328"/>
                  <a:pt x="7139" y="12409"/>
                  <a:pt x="6896" y="12526"/>
                </a:cubicBezTo>
                <a:cubicBezTo>
                  <a:pt x="6634" y="12653"/>
                  <a:pt x="6438" y="13005"/>
                  <a:pt x="6573" y="13295"/>
                </a:cubicBezTo>
                <a:cubicBezTo>
                  <a:pt x="6709" y="13431"/>
                  <a:pt x="6767" y="13474"/>
                  <a:pt x="6921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6040" y="5340240"/>
            <a:ext cx="1482840" cy="893880"/>
          </a:xfrm>
          <a:custGeom>
            <a:avLst/>
            <a:gdLst/>
            <a:ahLst/>
            <a:rect l="l" t="t" r="r" b="b"/>
            <a:pathLst>
              <a:path w="4118" h="2482">
                <a:moveTo>
                  <a:pt x="4589" y="15007"/>
                </a:moveTo>
                <a:cubicBezTo>
                  <a:pt x="4673" y="14989"/>
                  <a:pt x="4785" y="14949"/>
                  <a:pt x="4837" y="15056"/>
                </a:cubicBezTo>
                <a:cubicBezTo>
                  <a:pt x="4881" y="15147"/>
                  <a:pt x="4781" y="15340"/>
                  <a:pt x="4663" y="15280"/>
                </a:cubicBezTo>
                <a:cubicBezTo>
                  <a:pt x="4680" y="15272"/>
                  <a:pt x="4696" y="15263"/>
                  <a:pt x="4713" y="15255"/>
                </a:cubicBezTo>
                <a:cubicBezTo>
                  <a:pt x="4836" y="15280"/>
                  <a:pt x="4877" y="15288"/>
                  <a:pt x="4936" y="15354"/>
                </a:cubicBezTo>
                <a:cubicBezTo>
                  <a:pt x="4844" y="15513"/>
                  <a:pt x="4752" y="15547"/>
                  <a:pt x="4564" y="15503"/>
                </a:cubicBezTo>
                <a:cubicBezTo>
                  <a:pt x="4520" y="15481"/>
                  <a:pt x="4509" y="15478"/>
                  <a:pt x="4490" y="15453"/>
                </a:cubicBezTo>
              </a:path>
              <a:path w="4118" h="2482">
                <a:moveTo>
                  <a:pt x="5333" y="14932"/>
                </a:moveTo>
                <a:cubicBezTo>
                  <a:pt x="5163" y="15148"/>
                  <a:pt x="5108" y="15301"/>
                  <a:pt x="5209" y="15577"/>
                </a:cubicBezTo>
                <a:cubicBezTo>
                  <a:pt x="5226" y="15602"/>
                  <a:pt x="5242" y="15627"/>
                  <a:pt x="5259" y="15652"/>
                </a:cubicBezTo>
              </a:path>
              <a:path w="4118" h="2482">
                <a:moveTo>
                  <a:pt x="5457" y="15131"/>
                </a:moveTo>
                <a:cubicBezTo>
                  <a:pt x="5514" y="15131"/>
                  <a:pt x="5705" y="15107"/>
                  <a:pt x="5606" y="15230"/>
                </a:cubicBezTo>
                <a:cubicBezTo>
                  <a:pt x="5581" y="15247"/>
                  <a:pt x="5556" y="15263"/>
                  <a:pt x="5531" y="15280"/>
                </a:cubicBezTo>
                <a:cubicBezTo>
                  <a:pt x="5560" y="15283"/>
                  <a:pt x="5796" y="15318"/>
                  <a:pt x="5705" y="15404"/>
                </a:cubicBezTo>
                <a:cubicBezTo>
                  <a:pt x="5635" y="15470"/>
                  <a:pt x="5530" y="15472"/>
                  <a:pt x="5507" y="15404"/>
                </a:cubicBezTo>
              </a:path>
              <a:path w="4118" h="2482">
                <a:moveTo>
                  <a:pt x="5829" y="14883"/>
                </a:moveTo>
                <a:cubicBezTo>
                  <a:pt x="5978" y="15020"/>
                  <a:pt x="6218" y="15244"/>
                  <a:pt x="6152" y="15478"/>
                </a:cubicBezTo>
                <a:cubicBezTo>
                  <a:pt x="6062" y="15589"/>
                  <a:pt x="6043" y="15624"/>
                  <a:pt x="5953" y="15652"/>
                </a:cubicBezTo>
              </a:path>
              <a:path w="4118" h="2482">
                <a:moveTo>
                  <a:pt x="5383" y="16098"/>
                </a:moveTo>
                <a:cubicBezTo>
                  <a:pt x="5405" y="16007"/>
                  <a:pt x="5416" y="15981"/>
                  <a:pt x="5383" y="15925"/>
                </a:cubicBezTo>
                <a:cubicBezTo>
                  <a:pt x="5288" y="15904"/>
                  <a:pt x="5098" y="15963"/>
                  <a:pt x="5085" y="16098"/>
                </a:cubicBezTo>
                <a:cubicBezTo>
                  <a:pt x="5102" y="16123"/>
                  <a:pt x="5118" y="16148"/>
                  <a:pt x="5135" y="16173"/>
                </a:cubicBezTo>
                <a:cubicBezTo>
                  <a:pt x="5252" y="16126"/>
                  <a:pt x="5322" y="16084"/>
                  <a:pt x="5407" y="15999"/>
                </a:cubicBezTo>
                <a:cubicBezTo>
                  <a:pt x="5431" y="16149"/>
                  <a:pt x="5432" y="16293"/>
                  <a:pt x="5432" y="16446"/>
                </a:cubicBezTo>
              </a:path>
              <a:path w="4118" h="2482">
                <a:moveTo>
                  <a:pt x="6648" y="15056"/>
                </a:moveTo>
                <a:cubicBezTo>
                  <a:pt x="6648" y="15205"/>
                  <a:pt x="6648" y="15238"/>
                  <a:pt x="6648" y="15329"/>
                </a:cubicBezTo>
              </a:path>
              <a:path w="4118" h="2482">
                <a:moveTo>
                  <a:pt x="6499" y="15255"/>
                </a:moveTo>
                <a:cubicBezTo>
                  <a:pt x="6608" y="15246"/>
                  <a:pt x="6713" y="15226"/>
                  <a:pt x="6821" y="15205"/>
                </a:cubicBezTo>
              </a:path>
              <a:path w="4118" h="2482">
                <a:moveTo>
                  <a:pt x="7218" y="15056"/>
                </a:moveTo>
                <a:cubicBezTo>
                  <a:pt x="7306" y="15047"/>
                  <a:pt x="7420" y="15001"/>
                  <a:pt x="7441" y="15156"/>
                </a:cubicBezTo>
                <a:cubicBezTo>
                  <a:pt x="7466" y="15339"/>
                  <a:pt x="7161" y="15474"/>
                  <a:pt x="7045" y="15577"/>
                </a:cubicBezTo>
                <a:cubicBezTo>
                  <a:pt x="7175" y="15596"/>
                  <a:pt x="7283" y="15561"/>
                  <a:pt x="7417" y="15553"/>
                </a:cubicBezTo>
                <a:cubicBezTo>
                  <a:pt x="7425" y="15553"/>
                  <a:pt x="7433" y="15553"/>
                  <a:pt x="7441" y="15553"/>
                </a:cubicBezTo>
              </a:path>
              <a:path w="4118" h="2482">
                <a:moveTo>
                  <a:pt x="7863" y="14932"/>
                </a:moveTo>
                <a:cubicBezTo>
                  <a:pt x="7809" y="15094"/>
                  <a:pt x="7681" y="15255"/>
                  <a:pt x="7640" y="15429"/>
                </a:cubicBezTo>
                <a:cubicBezTo>
                  <a:pt x="7594" y="15626"/>
                  <a:pt x="7754" y="15628"/>
                  <a:pt x="7888" y="15677"/>
                </a:cubicBezTo>
              </a:path>
              <a:path w="4118" h="2482">
                <a:moveTo>
                  <a:pt x="7962" y="15156"/>
                </a:moveTo>
                <a:cubicBezTo>
                  <a:pt x="8017" y="15221"/>
                  <a:pt x="8003" y="15212"/>
                  <a:pt x="7962" y="15304"/>
                </a:cubicBezTo>
                <a:cubicBezTo>
                  <a:pt x="7962" y="15404"/>
                  <a:pt x="8175" y="15354"/>
                  <a:pt x="8260" y="15354"/>
                </a:cubicBezTo>
              </a:path>
              <a:path w="4118" h="2482">
                <a:moveTo>
                  <a:pt x="8235" y="15156"/>
                </a:moveTo>
                <a:cubicBezTo>
                  <a:pt x="8218" y="15282"/>
                  <a:pt x="8210" y="15399"/>
                  <a:pt x="8210" y="15528"/>
                </a:cubicBezTo>
              </a:path>
              <a:path w="4118" h="2482">
                <a:moveTo>
                  <a:pt x="8409" y="14833"/>
                </a:moveTo>
                <a:cubicBezTo>
                  <a:pt x="8549" y="15020"/>
                  <a:pt x="8678" y="15274"/>
                  <a:pt x="8607" y="15528"/>
                </a:cubicBezTo>
                <a:cubicBezTo>
                  <a:pt x="8593" y="15578"/>
                  <a:pt x="8523" y="15637"/>
                  <a:pt x="8483" y="15677"/>
                </a:cubicBezTo>
              </a:path>
              <a:path w="4118" h="2482">
                <a:moveTo>
                  <a:pt x="6474" y="16049"/>
                </a:moveTo>
                <a:cubicBezTo>
                  <a:pt x="6459" y="16155"/>
                  <a:pt x="6449" y="16241"/>
                  <a:pt x="6449" y="16346"/>
                </a:cubicBezTo>
              </a:path>
              <a:path w="4118" h="2482">
                <a:moveTo>
                  <a:pt x="6276" y="16173"/>
                </a:moveTo>
                <a:cubicBezTo>
                  <a:pt x="6418" y="16181"/>
                  <a:pt x="6554" y="16197"/>
                  <a:pt x="6697" y="16197"/>
                </a:cubicBezTo>
              </a:path>
              <a:path w="4118" h="2482">
                <a:moveTo>
                  <a:pt x="7764" y="15974"/>
                </a:moveTo>
                <a:cubicBezTo>
                  <a:pt x="7573" y="15974"/>
                  <a:pt x="7512" y="15970"/>
                  <a:pt x="7367" y="16073"/>
                </a:cubicBezTo>
                <a:cubicBezTo>
                  <a:pt x="7479" y="16186"/>
                  <a:pt x="7677" y="16281"/>
                  <a:pt x="7665" y="16371"/>
                </a:cubicBezTo>
                <a:cubicBezTo>
                  <a:pt x="7453" y="16355"/>
                  <a:pt x="7557" y="16246"/>
                  <a:pt x="7665" y="16123"/>
                </a:cubicBezTo>
                <a:cubicBezTo>
                  <a:pt x="7720" y="16068"/>
                  <a:pt x="7745" y="16070"/>
                  <a:pt x="7739" y="16024"/>
                </a:cubicBezTo>
              </a:path>
              <a:path w="4118" h="2482">
                <a:moveTo>
                  <a:pt x="6424" y="16818"/>
                </a:moveTo>
                <a:cubicBezTo>
                  <a:pt x="6424" y="16702"/>
                  <a:pt x="6413" y="17084"/>
                  <a:pt x="6400" y="17140"/>
                </a:cubicBezTo>
                <a:cubicBezTo>
                  <a:pt x="6392" y="17148"/>
                  <a:pt x="6383" y="17157"/>
                  <a:pt x="6375" y="17165"/>
                </a:cubicBezTo>
              </a:path>
              <a:path w="4118" h="2482">
                <a:moveTo>
                  <a:pt x="6697" y="16743"/>
                </a:moveTo>
                <a:cubicBezTo>
                  <a:pt x="6802" y="16743"/>
                  <a:pt x="6897" y="16738"/>
                  <a:pt x="6995" y="16768"/>
                </a:cubicBezTo>
                <a:cubicBezTo>
                  <a:pt x="6974" y="16883"/>
                  <a:pt x="6931" y="17000"/>
                  <a:pt x="6896" y="17115"/>
                </a:cubicBezTo>
              </a:path>
              <a:path w="4118" h="2482">
                <a:moveTo>
                  <a:pt x="6077" y="17190"/>
                </a:moveTo>
                <a:cubicBezTo>
                  <a:pt x="6265" y="17267"/>
                  <a:pt x="6466" y="17303"/>
                  <a:pt x="6672" y="17314"/>
                </a:cubicBezTo>
                <a:cubicBezTo>
                  <a:pt x="6923" y="17327"/>
                  <a:pt x="7182" y="17297"/>
                  <a:pt x="7417" y="17214"/>
                </a:cubicBezTo>
                <a:cubicBezTo>
                  <a:pt x="7584" y="17155"/>
                  <a:pt x="7670" y="17074"/>
                  <a:pt x="7590" y="16892"/>
                </a:cubicBezTo>
                <a:cubicBezTo>
                  <a:pt x="7501" y="16689"/>
                  <a:pt x="7296" y="16565"/>
                  <a:pt x="7094" y="16495"/>
                </a:cubicBezTo>
                <a:cubicBezTo>
                  <a:pt x="6974" y="16453"/>
                  <a:pt x="6746" y="16443"/>
                  <a:pt x="6623" y="16470"/>
                </a:cubicBezTo>
                <a:cubicBezTo>
                  <a:pt x="6439" y="16511"/>
                  <a:pt x="6258" y="16638"/>
                  <a:pt x="6152" y="16793"/>
                </a:cubicBezTo>
                <a:cubicBezTo>
                  <a:pt x="6065" y="16921"/>
                  <a:pt x="5980" y="17175"/>
                  <a:pt x="6176" y="17264"/>
                </a:cubicBezTo>
                <a:cubicBezTo>
                  <a:pt x="6341" y="17339"/>
                  <a:pt x="6522" y="17314"/>
                  <a:pt x="6697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websites to help you review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ath-play.com/math-millionair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1840" y="3962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zon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ompleted review sheet with you tomorrow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1 – PW pg. 9 even numbere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1:49:04Z</dcterms:created>
  <dc:creator>Brian McGrath</dc:creator>
  <dc:description/>
  <dc:language>en-US</dc:language>
  <cp:lastModifiedBy>deanne elizabeth mcgrath</cp:lastModifiedBy>
  <dcterms:modified xsi:type="dcterms:W3CDTF">2010-09-21T17:57:53Z</dcterms:modified>
  <cp:revision>3</cp:revision>
  <dc:subject/>
  <dc:title>Warm-up:</dc:title>
</cp:coreProperties>
</file>